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60160" y="723960"/>
            <a:ext cx="10464840" cy="375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Show Me the Money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for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Chalkboard"/>
              </a:rPr>
              <a:t>C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-</a:t>
            </a:r>
            <a:r>
              <a:rPr b="0" lang="en-US" sz="7200" spc="-1" strike="noStrike">
                <a:solidFill>
                  <a:srgbClr val="00ff00"/>
                </a:solidFill>
                <a:latin typeface="Chalkboard"/>
              </a:rPr>
              <a:t>J</a:t>
            </a:r>
            <a:r>
              <a:rPr b="0" lang="en-US" sz="7200" spc="-1" strike="noStrike">
                <a:solidFill>
                  <a:srgbClr val="ff0080"/>
                </a:solidFill>
                <a:latin typeface="Chalkboard"/>
              </a:rPr>
              <a:t>E</a:t>
            </a:r>
            <a:r>
              <a:rPr b="0" lang="en-US" sz="7200" spc="-1" strike="noStrike">
                <a:solidFill>
                  <a:srgbClr val="ff8000"/>
                </a:solidFill>
                <a:latin typeface="Chalkboard"/>
              </a:rPr>
              <a:t>M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 Elementary School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63370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halkboard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ris, </a:t>
            </a:r>
            <a:r>
              <a:rPr b="0" lang="en-US" sz="3600" spc="-1" strike="noStrike">
                <a:solidFill>
                  <a:srgbClr val="00ff00"/>
                </a:solidFill>
                <a:latin typeface="Chalkboard"/>
              </a:rPr>
              <a:t>J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n, </a:t>
            </a:r>
            <a:r>
              <a:rPr b="0" lang="en-US" sz="3600" spc="-1" strike="noStrike">
                <a:solidFill>
                  <a:srgbClr val="ff0080"/>
                </a:solidFill>
                <a:latin typeface="Chalkboard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ily, </a:t>
            </a:r>
            <a:r>
              <a:rPr b="0" lang="en-US" sz="3600" spc="-1" strike="noStrike">
                <a:solidFill>
                  <a:srgbClr val="ff8000"/>
                </a:solidFill>
                <a:latin typeface="Chalkboard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ri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rch 9, 2011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80"/>
                </a:solidFill>
                <a:latin typeface="Chalkboard"/>
              </a:rPr>
              <a:t>Identification of New Program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708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fcf"/>
                </a:solidFill>
                <a:latin typeface="Chalkboard Bold"/>
                <a:ea typeface="Chalkboard Bold"/>
              </a:rPr>
              <a:t>Purchase Math Expressions - $440,000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Materials - $40,000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Teacher Resources, Student Work Books, Textbooks, Manipulatives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Professional Development - $15,000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Train the Trainers Model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Allocation towards district staff development - $175,000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Allows for days with trainers and 1/2 days for collaboration by grade level with paid substitutes 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80"/>
                </a:solidFill>
                <a:latin typeface="Chalkboard"/>
              </a:rPr>
              <a:t>Identification of New Program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75880" y="158724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marL="197172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Hiring of 2 math coaches - $180,000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ain focus will be to work with minority students who are not proficient to help close the achievement gap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fter School Tutoring Program - $30,000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cludes 3 teachers (3-5), transportation for 1 hour 2 days a week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8000"/>
                </a:solidFill>
                <a:latin typeface="Chalkboard"/>
              </a:rPr>
              <a:t>Monitoring New Reading Progra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920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Years 2 &amp; 3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se PSSA scores as summative assessmen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s the achievement gap narrowing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s the level of proficiency growing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se DRA data from May of previous year to September of new year to determine if targeted students are showing retention of material over the summer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se DRA scores from September, February and May to determine if minority students’ growth levels are increasing at a faster rate than previous year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8000"/>
                </a:solidFill>
                <a:latin typeface="Chalkboard"/>
              </a:rPr>
              <a:t>Monitoring New Math Program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920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Years 2 &amp; 3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se PSSA scores as summative assessmen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s the achievement gap narrowing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s the level of proficiency growing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se 4-Sight scores from September, February and May to determine if students’ growth levels are increasing at a faster rate than previous year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51040" y="203040"/>
            <a:ext cx="1159488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8000"/>
                </a:solidFill>
                <a:latin typeface="Chalkboard"/>
              </a:rPr>
              <a:t>Yearly Progress Measures for 2013 &amp; 2014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nd US Department of Education data from PSSA scores, DRA levels, and 4-Sight scores from the years 2011-2012, 2012-2013, 2013-2014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halkboard"/>
              </a:rPr>
              <a:t>Need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eading Scor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009-2010 PSSA Scor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otal Proficient - 60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hite Proficient - 75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inority Proficient - 25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Chalkboard"/>
              </a:rPr>
              <a:t>Need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th Scor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009-2010 PSSA Scor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otal Proficient - 40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hite Proficient - 67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inority Proficient - 33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halkboard"/>
              </a:rPr>
              <a:t>Current Reading Program Evalu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39960" y="2488680"/>
            <a:ext cx="10464480" cy="664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92080" indent="-434880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Year 1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What are the levels of the current students? 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Used PSSA and DRA scores as a summative assessment from 2010-2011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How are our students progressing?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Use Diagnostic Reading Assessment (DRA) scores for the current year of 2011-2012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Given September, February using May of 2011 as a baseline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Findings showed that white students retained information from the previous year better than minority students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Both sets of students showed significant progress through the school year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36200" y="202680"/>
            <a:ext cx="1099836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halkboard"/>
              </a:rPr>
              <a:t>Current Reading Program Evaluation Findings Finding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02960" y="3137040"/>
            <a:ext cx="10464840" cy="66420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291960" bIns="291960" anchor="t">
            <a:normAutofit/>
          </a:bodyPr>
          <a:p>
            <a:pPr marL="60012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Based on the results of the evaluation, the program has been proven to be effective and provide growth to all students.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 marL="600120" indent="-4348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However, the regression over the summer by the minority students is a cause for concern.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halkboard"/>
              </a:rPr>
              <a:t>Current Math Program Evalu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28880" y="2488680"/>
            <a:ext cx="10464480" cy="664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92080" indent="-434880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Year 1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What are the levels of the current students? 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Used PSSA and 4-Sight scores as a summative assessment from 2010-2011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How are our students progressing?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Use 4-Sight scores for the current year of 2011-2012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Given September, February using May of 2011 as a baseline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Findings showed that all students retained information from the previous year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halkboard"/>
              </a:rPr>
              <a:t>White students showed a significantly higher progression of concepts through the school year but the level of progression was not enough to show proficiency</a:t>
            </a:r>
            <a:endParaRPr b="0" lang="en-US" sz="2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6200" y="202680"/>
            <a:ext cx="1099836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halkboard"/>
              </a:rPr>
              <a:t>Current Math Program Evaluation Findings Finding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98040" y="3060720"/>
            <a:ext cx="10464840" cy="66420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291960" bIns="291960" anchor="t">
            <a:normAutofit/>
          </a:bodyPr>
          <a:p>
            <a:pPr marL="60012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Based on the results of the evaluation, the program has been proven to be non-effective for all students.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  <a:p>
            <a:pPr marL="600120" indent="-4348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However, there is also a large disparity of proficiency between white and minority students.</a:t>
            </a:r>
            <a:endParaRPr b="0" lang="en-US" sz="25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80"/>
                </a:solidFill>
                <a:latin typeface="Chalkboard"/>
              </a:rPr>
              <a:t>Identification of New Program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3520" y="312408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fcf"/>
                </a:solidFill>
                <a:latin typeface="Chalkboard Bold"/>
                <a:ea typeface="Chalkboard Bold"/>
              </a:rPr>
              <a:t>Summer Reading Program for 2 years- $60,0</a:t>
            </a:r>
            <a:r>
              <a:rPr b="0" lang="en-US" sz="2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00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80000"/>
              </a:lnSpc>
              <a:spcBef>
                <a:spcPts val="22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6 weeks, Tues, Wed, Thurs, 9-12 in 1 school library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80000"/>
              </a:lnSpc>
              <a:spcBef>
                <a:spcPts val="22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5 teachers for grades 3-5 - $25,000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80000"/>
              </a:lnSpc>
              <a:spcBef>
                <a:spcPts val="2200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1 Coordinator - $10,000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80000"/>
              </a:lnSpc>
              <a:spcBef>
                <a:spcPts val="2200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work with grade level teachers 3-5 to create a curriculum for the summer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80000"/>
              </a:lnSpc>
              <a:spcBef>
                <a:spcPts val="2200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administrator for summer program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80000"/>
              </a:lnSpc>
              <a:spcBef>
                <a:spcPts val="2200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Maximum of 80 students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80000"/>
              </a:lnSpc>
              <a:spcBef>
                <a:spcPts val="2200"/>
              </a:spcBef>
              <a:buSzPct val="100000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Offered to all students who show regression through the DRA scores from May 2011 to September 2011</a:t>
            </a:r>
            <a:endParaRPr b="0" lang="en-US" sz="2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80"/>
                </a:solidFill>
                <a:latin typeface="Chalkboard"/>
              </a:rPr>
              <a:t>Identification of New Program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5880" y="237492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4 Parent Informational Nights - $3000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halkboard"/>
              </a:rPr>
              <a:t>Maintenance Fees -$4,000</a:t>
            </a:r>
            <a:endParaRPr b="0" lang="en-US" sz="29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2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halkboard"/>
              </a:rPr>
              <a:t>Transportation Provided - $6000</a:t>
            </a:r>
            <a:endParaRPr b="0" lang="en-US" sz="29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200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halkboard"/>
              </a:rPr>
              <a:t>Snacks provided - $3000 </a:t>
            </a:r>
            <a:endParaRPr b="0" lang="en-US" sz="29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200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Supplies - $8000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